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F32-FD88-4E1B-929F-9F4EF777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1FF-0076-45A0-9572-05E7410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25C-2B66-4F9A-87EC-EAE80A08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94B-F971-40DF-89E2-6799F8D5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22B9-C21B-4357-B428-AF5C25DB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7F3A-1113-4736-990D-EE4C15CC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C45E-95FD-459A-B3D7-D046C32F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0A6A-1424-4842-9613-D2527241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2697-9414-48BA-9C1C-7862EB61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7439-84A1-44E5-AC77-51CA3F8D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ADDC-0AE7-4758-9351-7C1456F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C85C-D054-4954-8B13-991F3FEC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E5FB-5924-4972-8A7E-E86FF5EA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7883-8310-458C-A080-4596CE5D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6187-55DF-467C-A3EC-619AEA74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4E5-9FF6-405F-A2B1-BFC7385E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75248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4618440"/>
            <a:ext cx="26485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89AE-CC3B-4EB4-9110-4E46566E1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586-DBC1-4558-820E-AFDEE39D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257-AFFD-4A8F-AC53-3CB7D365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7414-5149-4FFC-92A6-3A9509153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1CB7-A8D7-409C-992C-1AFB8A26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600-1655-404E-A627-6B1E2667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461844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687-4503-49E1-9C18-A8D53FC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752480"/>
            <a:ext cx="401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4618440"/>
            <a:ext cx="8226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033-6499-44B9-BACF-5E512855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FE1-1EC5-44EC-9C90-BC83311856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6A1D-C962-4104-A5E8-310E3D5D104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hapter 14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HE SECTIONAL CRI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0" y="65768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orging a Compromise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Fugitive Slave Law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Compromise of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se accused of being fugitive slaves denied Constitution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unpopular in Abolitionist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olitical Upheaval, 1852–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459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and Democrats manage controversy in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alism destroys both parties in 1850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arty System in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es need new issues after 18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im credit for the nation's prospe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 to defend the Compromise of 18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s fail, become internally divi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2: Whig Winfield Scott loses in a landslide to Democrat Franklin Pie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5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3" name="Picture 4" descr="DIVI7233TB1402"/>
          <p:cNvPicPr/>
          <p:nvPr/>
        </p:nvPicPr>
        <p:blipFill>
          <a:blip r:embed="rId1"/>
          <a:srcRect l="0" t="19133" r="0" b="4336"/>
          <a:stretch/>
        </p:blipFill>
        <p:spPr>
          <a:xfrm>
            <a:off x="304920" y="23623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 Raises a 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ator Stephen Douglas (D-IL) wants Kansas and Nebraska open to settlement to facilitate Transcontinental RR to Chic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4: Douglas’s Kansas-Nebraska bi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y popular sovereignty to Kansas, Nebrask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l Missouri Compromise l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passes on sectional vo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ers outraged, Democratic party spl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2520"/>
            <a:ext cx="8610480" cy="17082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 185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Picture 4" descr="DIVI7233281"/>
          <p:cNvPicPr/>
          <p:nvPr/>
        </p:nvPicPr>
        <p:blipFill>
          <a:blip r:embed="rId1"/>
          <a:stretch/>
        </p:blipFill>
        <p:spPr>
          <a:xfrm>
            <a:off x="533520" y="1887480"/>
            <a:ext cx="800100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ansas-Nebraska Act Raises a St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S-NE Act seen as North making concessions to South, but not getting anything in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g indecision causes party to disinteg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 defection among Northern Democra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i-Nebraska” candidates sweep North in 1854 congressional el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s become sole Southern pa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Soil Party grows stronger and becomes Republ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ident Pierce’s effort to acquire Cuba provokes antislavery firest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 Appeal to Nativism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now-Nothing Episo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-Nothings (American Party) appeals to anti-Catholic sent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54--American party surg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856 Know-Nothings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able cause:  No response to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gressional Election of 185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5" name="Picture 4" descr="DIVI7233282"/>
          <p:cNvPicPr/>
          <p:nvPr/>
        </p:nvPicPr>
        <p:blipFill>
          <a:blip r:embed="rId1"/>
          <a:stretch/>
        </p:blipFill>
        <p:spPr>
          <a:xfrm>
            <a:off x="1523880" y="1523880"/>
            <a:ext cx="60692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ansas and the Rise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f the Republic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party unites former Whigs, Know-Nothings, Free-Soilers, Nor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eals to Northern sectional sympath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ds West for white, small farmers from Slave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eeding Kansas” helps Republic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ggle among abolitionists, proslavery forces for control of Kansas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s use conflict to appeal for vo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romise of 18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nd South conflict violently over slavery’s extension into the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fessional politicians mediate 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leeding Kansas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3" name="Picture 4" descr="DIVI7233283"/>
          <p:cNvPicPr/>
          <p:nvPr/>
        </p:nvPicPr>
        <p:blipFill>
          <a:blip r:embed="rId1"/>
          <a:stretch/>
        </p:blipFill>
        <p:spPr>
          <a:xfrm>
            <a:off x="2666880" y="1447920"/>
            <a:ext cx="373392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ctional Division in the Election of 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John C. F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 seeks votes only in free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-Nothing Millard Fillmore champions sectional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 James Buchanan defends the Compromise of 1850, carries 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ion really 2 el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rth: Freemont vs. Buch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: Fillmore vs. Buchan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make clear gains in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5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066680" y="1752480"/>
            <a:ext cx="7543800" cy="2670840"/>
          </a:xfrm>
          <a:prstGeom prst="rect">
            <a:avLst/>
          </a:prstGeom>
          <a:solidFill>
            <a:srgbClr val="9900ff"/>
          </a:solidFill>
          <a:ln w="12600">
            <a:solidFill>
              <a:srgbClr val="6b6b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Candidate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arty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Popular Vote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Electoral Vot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uchan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mocratic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,832,955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7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émont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public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,339,932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1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llmore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merican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871,731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(Know-Nothing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House Divided, 1857–186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ional quarrel becomes virtually irreconcilable under Buchan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sense of deep cultural differences, opposing interests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ultural Sectiona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Protestant denominations divide into Northern and Southern entities over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literature romanticizes plantation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seeks intellectual, economic independ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intellectuals condemn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e Tom's Cab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 immense success in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Dred Scott Ca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ed Scott v. Sanfo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1857): Supreme Court can decide on slavery in the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t refuses narrow determination of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or arg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tt has no right to sue because neither he nor any other black, slave or free, is a citiz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has no authority to prohibit slavery in territories, Missouri Compromise unconstitu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ling supports Republican claim that an aggressive slave power dominated all branches of federal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Lecompton Controver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86882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57: Rigged Lecompton convention drafts constitution to make Kansas a slave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use defeats attempt by Buchanan, Southerners to admit Kans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constitution referred bac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of Kansas repudiate Lecompton Constitution by 6 to 1 margin in 185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incident more evidence to Republicans of slave power conspi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compton and Dred Scott case destroy Stephen Douglas’s hopes of unified Democratic party protecting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bating the Morality of Slaver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ries “Southern plot” to extend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s to work for slavery’s exti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sts slavery as a mor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s white supremacy in response to Dou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glas accuses Lincoln of favoring e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loses election, gains national repu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outh's Crisis of Fe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400" y="15238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tober, 1859: John Brown raids Harper’s Fer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wn executed, many Northerners see him as marty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nton Helper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mpending Crisis of the Sou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sked poor white Southerners to overthrow planter dominance and abolish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rsed by House Republican leader John Sh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Southerners, Republicans seen as radical abolition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erners convinced they must secede on election of Republican p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Republica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aham Lincoln nomin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 state of Illinois crucial to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n as mode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tform to widen party’s app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tariffs for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homesteads for small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id for internal impr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wins by carrying Nor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Problem of Slavery in the Mexican Ces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avery traditionally kept out of poli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ional power over slavery inclu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conditions to make territories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bidding slavery in new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Cession of 1848 puts status of slavery in new territory into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Democr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y spl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ephen Dou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ed support for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Democr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hn Breckenrid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 protection of slavery in territo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60:  Constitutional Union Par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7316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didate John B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ises compromise between North and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759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lection of 1860: Outco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2952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con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rth: Lincoln vs. Dougl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th: Bell vs. Brecken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ublicans get electoral majority with all but 3 Northern electoral votes, although only 40% of popular vote nation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th sees this as beginning of permanent minority status in American poli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outh political leaders launch secession mov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DIVI7233290"/>
          <p:cNvPicPr/>
          <p:nvPr/>
        </p:nvPicPr>
        <p:blipFill>
          <a:blip r:embed="rId1"/>
          <a:stretch/>
        </p:blipFill>
        <p:spPr>
          <a:xfrm>
            <a:off x="2057400" y="457200"/>
            <a:ext cx="50385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xplaining the Cri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s a strict sectional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damental conflict of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ernalism, generosity,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defended on the grounds of r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ide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pired by evangelical Protestant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person free and respon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ry tyrannical and imm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Wilmot Proviso Launches the Free-Soil Mov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xican War mobilizes antislavery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mot Provi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ndment to Mexican War Appropriations Bill by David Wilmont (D-P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n all blacks from new territories to preserve for white farm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s racism and anti-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so passes in House, fails in Se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le over the Proviso foreshadows sectional conflict of 185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quatter Sovereignty and the Election of 184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76400"/>
            <a:ext cx="7848720" cy="42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ic presidential candidate Lewis Cass proposes popular sovereign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gress allows territorial settlers to dec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ed by many antislavery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e-Soil candidate Martin Van Buren demands definite limits on slav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g Zachary Taylor takes no posi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ylor wins election with less than 50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Election of 1848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3" name="Picture 4" descr="DIVI7233TB1401"/>
          <p:cNvPicPr/>
          <p:nvPr/>
        </p:nvPicPr>
        <p:blipFill>
          <a:blip r:embed="rId1"/>
          <a:srcRect l="0" t="20100" r="0" b="6185"/>
          <a:stretch/>
        </p:blipFill>
        <p:spPr>
          <a:xfrm>
            <a:off x="380880" y="2438280"/>
            <a:ext cx="8458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ylor Takes Char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ylor proposes admitting California and New Mexico as state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reacts angri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nough time for planters to set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admission would result in no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osed Nashville convention prompts fears of Southern sec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ging a Compromis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5400" y="1752480"/>
            <a:ext cx="84596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Clay’s 1850 compromise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ifornia admitted as a free st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ave trade prohibited in District of Columb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 fugitive slave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larged New Mexico territory to be admitted on basis of popular sovereign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ident Taylor opposes, VP Fillmore supports Clay’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uly 1850 Taylor 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romise passed as separat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ompromise of 18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7" name="Picture 4" descr="DIVI7233275"/>
          <p:cNvPicPr/>
          <p:nvPr/>
        </p:nvPicPr>
        <p:blipFill>
          <a:blip r:embed="rId1"/>
          <a:stretch/>
        </p:blipFill>
        <p:spPr>
          <a:xfrm>
            <a:off x="380880" y="1523880"/>
            <a:ext cx="84582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3:22:04Z</dcterms:created>
  <dc:creator>CMU</dc:creator>
  <dc:description/>
  <cp:keywords/>
  <dc:language>en-US</dc:language>
  <cp:lastModifiedBy>Matthew Myers</cp:lastModifiedBy>
  <cp:lastPrinted>2012-04-13T17:13:31Z</cp:lastPrinted>
  <dcterms:modified xsi:type="dcterms:W3CDTF">2010-11-09T14:46:17Z</dcterms:modified>
  <cp:revision>13</cp:revision>
  <dc:subject/>
  <dc:title>THE SECTIONAL CRISIS</dc:title>
</cp:coreProperties>
</file>